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3.png" ContentType="image/png"/>
  <Override PartName="/ppt/media/image16.jpeg" ContentType="image/jpeg"/>
  <Override PartName="/ppt/media/image14.gif" ContentType="image/gif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DD8-FF52-4613-84FE-704E5E30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32F-1E52-4D28-BBE5-C58F1EAB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518-4FC5-4ABB-BB37-81E4B087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F3F-FAF7-488A-85F0-1E580C56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CB9-573D-4154-BE8C-805D15F8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302-63F5-499A-92C1-E0344120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257-ADCD-41BE-8D70-0E8ECD2F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E83-C80A-4E09-AC6A-5152E69A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450-01DD-4CF3-A0EF-06BBC176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28E-555F-4A9A-A353-4C46E74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CB3-4979-4AE7-AC10-851ADF24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14B-3AE7-4AED-AD32-E63EF072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CC6-F74A-4D3E-AC17-2F85C33DF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0" y="380880"/>
            <a:ext cx="3962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DN Cursive"/>
              </a:rPr>
              <a:t>Vent Frai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DN Cursive"/>
              <a:ea typeface="DN Cursive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06640"/>
            <a:ext cx="88390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OS ITC TT-BookIt"/>
              </a:rPr>
              <a:t>Vent frais   vent du mat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OS ITC TT-BookIt"/>
              </a:rPr>
              <a:t>Soulevant le sommet des grands p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OS ITC TT-BookIt"/>
              </a:rPr>
              <a:t>Joie du vent qui souffl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SvtyTwo OS ITC TT-BookIt"/>
              </a:rPr>
              <a:t>allons dans le grand (bi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33336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53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93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04920"/>
            <a:ext cx="6095880" cy="3146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s les jardins d’mon 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s lilas sont fleur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us les oiseaux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ienn’t y faire leurs n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706920"/>
            <a:ext cx="6400800" cy="3146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p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ès de ma 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’il fait bon, fait bon, fait b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près de ma blon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’il fait bon dor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1447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838080"/>
            <a:ext cx="1815840" cy="196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320" y="3733920"/>
            <a:ext cx="223668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55308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5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806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23120" y="152280"/>
            <a:ext cx="182088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3524400"/>
            <a:ext cx="4800600" cy="333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769608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Un, deux, trois, Nous irons aux boi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Quatre, cinq, six, cueillir des ceris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Sept, huit, neuf, dans mon panier neuf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ettenschweiler"/>
              </a:rPr>
              <a:t>Dix, onze, douze, Elles seront toutes roug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434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179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83808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tons la vig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h! Voyez la jolie vign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gni, vignez, vignons le v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h! Voyez la jolie vigne à v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h! Voyez la jolie vig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274320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1295280"/>
            <a:ext cx="5639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 clair de la lune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mi 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err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ête moi ta p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ur écrire un m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 chandelle est mort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n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 plus de feu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uvre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i ta por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ur l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ur de Di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1981440" cy="143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373880" y="1905120"/>
            <a:ext cx="1770120" cy="16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5800" y="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55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533520"/>
            <a:ext cx="7238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, stram, gra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que et pique et colé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rre, bourre et ratat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, stram, gra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3333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059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6600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990720"/>
            <a:ext cx="86104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HASE"/>
              </a:rPr>
              <a:t>J’entends le loup, le renard et la be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HASE"/>
              </a:rPr>
              <a:t>J’entends le loup, le renard, cha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HASE"/>
              </a:rPr>
              <a:t>J’entends le loup, le renard et la be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HASE"/>
              </a:rPr>
              <a:t>J’entends le loup, le renard chan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560" y="0"/>
            <a:ext cx="152244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8120" y="5334120"/>
            <a:ext cx="2411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585000" y="229320"/>
            <a:ext cx="10879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S Mincho"/>
              </a:rPr>
              <a:t>Il était une bergè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S Mincho"/>
              </a:rPr>
              <a:t>Et ron et ron petit pata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S Mincho"/>
              </a:rPr>
              <a:t>Il était une bergè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S Mincho"/>
              </a:rPr>
              <a:t>Qui gardait ses moutons </a:t>
            </a:r>
            <a:r>
              <a:rPr b="0" lang="en-US" sz="3600" spc="-1" strike="noStrike">
                <a:solidFill>
                  <a:srgbClr val="000000"/>
                </a:solidFill>
                <a:latin typeface="MS Mincho"/>
              </a:rPr>
              <a:t>ron r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S Mincho"/>
              </a:rPr>
              <a:t>Qui gardait ses mouton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2705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35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6:46:41Z</dcterms:created>
  <dc:creator>SDW</dc:creator>
  <dc:description/>
  <dc:language>en-US</dc:language>
  <cp:lastModifiedBy>SDW</cp:lastModifiedBy>
  <dcterms:modified xsi:type="dcterms:W3CDTF">2006-11-30T13:24:41Z</dcterms:modified>
  <cp:revision>19</cp:revision>
  <dc:subject/>
  <dc:title>Slide 1</dc:title>
</cp:coreProperties>
</file>